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BAC9-8152-49D1-B965-98D8F9D22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ulti-m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 Classmate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60BE-3FE3-4EDB-981D-F54F7E9FF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A1AE-AB32-44D6-9EDF-2E282665B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A63C-0869-4DA5-8414-2C9B0657F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7650-E480-4E83-9D72-346CBE0E6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1A74-3231-4CD5-B893-AF03458C0B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3005-75E3-4D84-B303-EE8138CE5D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203B-6E68-4027-9E7A-9A3BF0EA50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BD1C-E2EE-4F62-A52A-E3F3AADF70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78E0-62EF-43B0-B1E6-4591823FBC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23B1-C821-4C18-953A-764BBCEDC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EEE6-100A-47AC-BEC8-6BA8639EF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C1FC-C972-48DA-A80B-885DB90C9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D2AB-9FE1-4F38-B6E3-05D76E8A46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DB3D-6F11-4336-9979-36310EC029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EA5A-1C7A-46EE-921A-087B05D23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16A7-6009-4D3B-AC0B-C20AC4E586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9339-84AD-402A-ADA1-22F54FEF1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A8DD-5F95-41D7-B896-E8C82D5E8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F77B-D9AA-47A7-90E1-91022323D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54D3-2322-4D65-9B4A-1B319C5AA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44ED-4C5C-4CD3-8F6D-DC9888AF9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0DD2-395C-4F1C-90A9-6ACBC94E8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5EE4-9AB0-46C0-8445-426883F08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7386-C9E0-444F-9B29-F811BC888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1240" indent="-35100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316080">
              <a:spcBef>
                <a:spcPts val="700"/>
              </a:spcBef>
              <a:buClr>
                <a:srgbClr val="3b812f"/>
              </a:buClr>
              <a:buSzPct val="69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004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004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004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9088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81CA-686A-4982-95FF-9D30ECBACD6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981080" y="3962160"/>
            <a:ext cx="655344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81000"/>
          </a:bodyPr>
          <a:p>
            <a:pPr marL="32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2040" indent="-32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9088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EF6C-3B1D-4CF9-ACF3-4AD029EA42C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5562720" y="3657600"/>
            <a:ext cx="2743200" cy="242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room Presenter on the XO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EFA5-D2D1-459B-B90B-635F141CE89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43000" y="41911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ias Kl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ur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an May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stofer Plunk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p3d.JPG"/>
          <p:cNvPicPr/>
          <p:nvPr/>
        </p:nvPicPr>
        <p:blipFill>
          <a:blip r:embed="rId2"/>
          <a:stretch/>
        </p:blipFill>
        <p:spPr>
          <a:xfrm>
            <a:off x="533520" y="1066680"/>
            <a:ext cx="4152960" cy="28879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10"/>
          <p:cNvSpPr/>
          <p:nvPr/>
        </p:nvSpPr>
        <p:spPr>
          <a:xfrm>
            <a:off x="5638680" y="1143000"/>
            <a:ext cx="2819520" cy="1676520"/>
          </a:xfrm>
          <a:prstGeom prst="pie">
            <a:avLst/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24480" y="1752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IC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12"/>
          <p:cNvSpPr/>
          <p:nvPr/>
        </p:nvSpPr>
        <p:spPr>
          <a:xfrm>
            <a:off x="4800600" y="1828800"/>
            <a:ext cx="762120" cy="533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13"/>
          <p:cNvSpPr/>
          <p:nvPr/>
        </p:nvSpPr>
        <p:spPr>
          <a:xfrm>
            <a:off x="6781680" y="30481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c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05320" y="2895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7000"/>
          </a:bodyPr>
          <a:p>
            <a:pPr marL="2944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796-4EBE-43E0-855A-EC9357495C4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 being donated to school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ant to develop lesson plans and contribute to XO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, scattered proposals and projects, largely focused on development of X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thout computer expertise at 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1EF3-26E3-4477-9E55-19882AD1436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r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Presenter on the XO Lap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for distributing and collecting information in classro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based on Classroom Presenter for Tablet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owerPoint as front-end, more accessible to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s XO into classroom set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CB64-6E4E-4E26-96B2-E20D207DD2C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971800" cy="2631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538920" y="27874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loads slide de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s slides to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457200" y="196920"/>
            <a:ext cx="457200" cy="457200"/>
            <a:chOff x="457200" y="196920"/>
            <a:chExt cx="457200" cy="457200"/>
          </a:xfrm>
        </p:grpSpPr>
        <p:sp>
          <p:nvSpPr>
            <p:cNvPr id="111" name="Oval 4"/>
            <p:cNvSpPr/>
            <p:nvPr/>
          </p:nvSpPr>
          <p:spPr>
            <a:xfrm>
              <a:off x="457200" y="196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519480" y="2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4800600" y="152280"/>
            <a:ext cx="4029120" cy="3157200"/>
            <a:chOff x="4800600" y="152280"/>
            <a:chExt cx="4029120" cy="3157200"/>
          </a:xfrm>
        </p:grpSpPr>
        <p:grpSp>
          <p:nvGrpSpPr>
            <p:cNvPr id="114" name="Group 7"/>
            <p:cNvGrpSpPr/>
            <p:nvPr/>
          </p:nvGrpSpPr>
          <p:grpSpPr>
            <a:xfrm>
              <a:off x="4800600" y="152280"/>
              <a:ext cx="457200" cy="457200"/>
              <a:chOff x="4800600" y="152280"/>
              <a:chExt cx="457200" cy="457200"/>
            </a:xfrm>
          </p:grpSpPr>
          <p:sp>
            <p:nvSpPr>
              <p:cNvPr id="115" name="Oval 8"/>
              <p:cNvSpPr/>
              <p:nvPr/>
            </p:nvSpPr>
            <p:spPr>
              <a:xfrm>
                <a:off x="4800600" y="152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862880" y="19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10" descr="xo-cp-mockup-ink1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004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1"/>
            <p:cNvSpPr/>
            <p:nvPr/>
          </p:nvSpPr>
          <p:spPr>
            <a:xfrm>
              <a:off x="4807080" y="2666880"/>
              <a:ext cx="40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s see slides and teacher’s in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own ink and send back to te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rc 12"/>
          <p:cNvSpPr/>
          <p:nvPr/>
        </p:nvSpPr>
        <p:spPr>
          <a:xfrm>
            <a:off x="3429000" y="380880"/>
            <a:ext cx="380880" cy="38124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3"/>
          <p:cNvSpPr/>
          <p:nvPr/>
        </p:nvSpPr>
        <p:spPr>
          <a:xfrm>
            <a:off x="3429000" y="228600"/>
            <a:ext cx="533520" cy="53352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4"/>
          <p:cNvSpPr/>
          <p:nvPr/>
        </p:nvSpPr>
        <p:spPr>
          <a:xfrm>
            <a:off x="3429000" y="76320"/>
            <a:ext cx="685800" cy="68580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6"/>
          <p:cNvGrpSpPr/>
          <p:nvPr/>
        </p:nvGrpSpPr>
        <p:grpSpPr>
          <a:xfrm>
            <a:off x="228600" y="3581280"/>
            <a:ext cx="4092480" cy="3157200"/>
            <a:chOff x="228600" y="3581280"/>
            <a:chExt cx="4092480" cy="3157200"/>
          </a:xfrm>
        </p:grpSpPr>
        <p:pic>
          <p:nvPicPr>
            <p:cNvPr id="123" name="Picture 24" descr="xo-slide-ink2"/>
            <p:cNvPicPr/>
            <p:nvPr/>
          </p:nvPicPr>
          <p:blipFill>
            <a:blip r:embed="rId3"/>
            <a:stretch/>
          </p:blipFill>
          <p:spPr>
            <a:xfrm>
              <a:off x="838080" y="3809880"/>
              <a:ext cx="1854360" cy="152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Group 15"/>
            <p:cNvGrpSpPr/>
            <p:nvPr/>
          </p:nvGrpSpPr>
          <p:grpSpPr>
            <a:xfrm>
              <a:off x="228600" y="3581280"/>
              <a:ext cx="457200" cy="457200"/>
              <a:chOff x="228600" y="3581280"/>
              <a:chExt cx="457200" cy="457200"/>
            </a:xfrm>
          </p:grpSpPr>
          <p:sp>
            <p:nvSpPr>
              <p:cNvPr id="125" name="Oval 16"/>
              <p:cNvSpPr/>
              <p:nvPr/>
            </p:nvSpPr>
            <p:spPr>
              <a:xfrm>
                <a:off x="228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7"/>
              <p:cNvSpPr/>
              <p:nvPr/>
            </p:nvSpPr>
            <p:spPr>
              <a:xfrm>
                <a:off x="290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8"/>
            <p:cNvSpPr/>
            <p:nvPr/>
          </p:nvSpPr>
          <p:spPr>
            <a:xfrm>
              <a:off x="232920" y="6095880"/>
              <a:ext cx="408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receives and reviews 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missions; gets feedback from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1" descr="xo-slide-ink1"/>
            <p:cNvPicPr/>
            <p:nvPr/>
          </p:nvPicPr>
          <p:blipFill>
            <a:blip r:embed="rId4"/>
            <a:stretch/>
          </p:blipFill>
          <p:spPr>
            <a:xfrm>
              <a:off x="2057400" y="4191120"/>
              <a:ext cx="2070000" cy="169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37"/>
          <p:cNvGrpSpPr/>
          <p:nvPr/>
        </p:nvGrpSpPr>
        <p:grpSpPr>
          <a:xfrm>
            <a:off x="4800600" y="3429000"/>
            <a:ext cx="4358520" cy="3309480"/>
            <a:chOff x="4800600" y="3429000"/>
            <a:chExt cx="4358520" cy="3309480"/>
          </a:xfrm>
        </p:grpSpPr>
        <p:grpSp>
          <p:nvGrpSpPr>
            <p:cNvPr id="130" name="Group 25"/>
            <p:cNvGrpSpPr/>
            <p:nvPr/>
          </p:nvGrpSpPr>
          <p:grpSpPr>
            <a:xfrm>
              <a:off x="4800600" y="3581280"/>
              <a:ext cx="457200" cy="457200"/>
              <a:chOff x="4800600" y="3581280"/>
              <a:chExt cx="457200" cy="457200"/>
            </a:xfrm>
          </p:grpSpPr>
          <p:sp>
            <p:nvSpPr>
              <p:cNvPr id="131" name="Oval 26"/>
              <p:cNvSpPr/>
              <p:nvPr/>
            </p:nvSpPr>
            <p:spPr>
              <a:xfrm>
                <a:off x="4800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27"/>
              <p:cNvSpPr/>
              <p:nvPr/>
            </p:nvSpPr>
            <p:spPr>
              <a:xfrm>
                <a:off x="4862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28"/>
            <p:cNvSpPr/>
            <p:nvPr/>
          </p:nvSpPr>
          <p:spPr>
            <a:xfrm>
              <a:off x="4805640" y="6095880"/>
              <a:ext cx="43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shares select student respo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entire class by broadcasting 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9" descr="xo-inked"/>
            <p:cNvPicPr/>
            <p:nvPr/>
          </p:nvPicPr>
          <p:blipFill>
            <a:blip r:embed="rId5"/>
            <a:stretch/>
          </p:blipFill>
          <p:spPr>
            <a:xfrm>
              <a:off x="5562720" y="3429000"/>
              <a:ext cx="16002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0" descr="xo-inked"/>
            <p:cNvPicPr/>
            <p:nvPr/>
          </p:nvPicPr>
          <p:blipFill>
            <a:blip r:embed="rId6"/>
            <a:stretch/>
          </p:blipFill>
          <p:spPr>
            <a:xfrm>
              <a:off x="6781680" y="4081320"/>
              <a:ext cx="23623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1" descr="xo-inked"/>
            <p:cNvPicPr/>
            <p:nvPr/>
          </p:nvPicPr>
          <p:blipFill>
            <a:blip r:embed="rId7"/>
            <a:stretch/>
          </p:blipFill>
          <p:spPr>
            <a:xfrm>
              <a:off x="5105520" y="4797360"/>
              <a:ext cx="129528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Line 32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2971800" cy="2631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538920" y="278748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loads slide deck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s slides to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457200" y="196920"/>
            <a:ext cx="457200" cy="457200"/>
            <a:chOff x="457200" y="196920"/>
            <a:chExt cx="457200" cy="457200"/>
          </a:xfrm>
        </p:grpSpPr>
        <p:sp>
          <p:nvSpPr>
            <p:cNvPr id="142" name="Oval 4"/>
            <p:cNvSpPr/>
            <p:nvPr/>
          </p:nvSpPr>
          <p:spPr>
            <a:xfrm>
              <a:off x="457200" y="196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519480" y="2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4800600" y="152280"/>
            <a:ext cx="4029120" cy="3157200"/>
            <a:chOff x="4800600" y="152280"/>
            <a:chExt cx="4029120" cy="3157200"/>
          </a:xfrm>
        </p:grpSpPr>
        <p:grpSp>
          <p:nvGrpSpPr>
            <p:cNvPr id="145" name="Group 7"/>
            <p:cNvGrpSpPr/>
            <p:nvPr/>
          </p:nvGrpSpPr>
          <p:grpSpPr>
            <a:xfrm>
              <a:off x="4800600" y="152280"/>
              <a:ext cx="457200" cy="457200"/>
              <a:chOff x="4800600" y="152280"/>
              <a:chExt cx="457200" cy="457200"/>
            </a:xfrm>
          </p:grpSpPr>
          <p:sp>
            <p:nvSpPr>
              <p:cNvPr id="146" name="Oval 8"/>
              <p:cNvSpPr/>
              <p:nvPr/>
            </p:nvSpPr>
            <p:spPr>
              <a:xfrm>
                <a:off x="4800600" y="152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9"/>
              <p:cNvSpPr/>
              <p:nvPr/>
            </p:nvSpPr>
            <p:spPr>
              <a:xfrm>
                <a:off x="4862880" y="19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Picture 10" descr="xo-cp-mockup-ink1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0040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"/>
            <p:cNvSpPr/>
            <p:nvPr/>
          </p:nvSpPr>
          <p:spPr>
            <a:xfrm>
              <a:off x="4807080" y="2666880"/>
              <a:ext cx="40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s see slides and teacher’s ink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own ink and send back to te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rc 12"/>
          <p:cNvSpPr/>
          <p:nvPr/>
        </p:nvSpPr>
        <p:spPr>
          <a:xfrm>
            <a:off x="3429000" y="380880"/>
            <a:ext cx="380880" cy="38124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13"/>
          <p:cNvSpPr/>
          <p:nvPr/>
        </p:nvSpPr>
        <p:spPr>
          <a:xfrm>
            <a:off x="3429000" y="228600"/>
            <a:ext cx="533520" cy="53352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14"/>
          <p:cNvSpPr/>
          <p:nvPr/>
        </p:nvSpPr>
        <p:spPr>
          <a:xfrm>
            <a:off x="3429000" y="76320"/>
            <a:ext cx="685800" cy="685800"/>
          </a:xfrm>
          <a:prstGeom prst="pie">
            <a:avLst/>
          </a:pr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6"/>
          <p:cNvGrpSpPr/>
          <p:nvPr/>
        </p:nvGrpSpPr>
        <p:grpSpPr>
          <a:xfrm>
            <a:off x="228600" y="3581280"/>
            <a:ext cx="4092480" cy="3157200"/>
            <a:chOff x="228600" y="3581280"/>
            <a:chExt cx="4092480" cy="3157200"/>
          </a:xfrm>
        </p:grpSpPr>
        <p:pic>
          <p:nvPicPr>
            <p:cNvPr id="154" name="Picture 24" descr="xo-slide-ink2"/>
            <p:cNvPicPr/>
            <p:nvPr/>
          </p:nvPicPr>
          <p:blipFill>
            <a:blip r:embed="rId3"/>
            <a:stretch/>
          </p:blipFill>
          <p:spPr>
            <a:xfrm>
              <a:off x="838080" y="3809880"/>
              <a:ext cx="1854360" cy="152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Group 15"/>
            <p:cNvGrpSpPr/>
            <p:nvPr/>
          </p:nvGrpSpPr>
          <p:grpSpPr>
            <a:xfrm>
              <a:off x="228600" y="3581280"/>
              <a:ext cx="457200" cy="457200"/>
              <a:chOff x="228600" y="3581280"/>
              <a:chExt cx="457200" cy="457200"/>
            </a:xfrm>
          </p:grpSpPr>
          <p:sp>
            <p:nvSpPr>
              <p:cNvPr id="156" name="Oval 16"/>
              <p:cNvSpPr/>
              <p:nvPr/>
            </p:nvSpPr>
            <p:spPr>
              <a:xfrm>
                <a:off x="228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7"/>
              <p:cNvSpPr/>
              <p:nvPr/>
            </p:nvSpPr>
            <p:spPr>
              <a:xfrm>
                <a:off x="290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8"/>
            <p:cNvSpPr/>
            <p:nvPr/>
          </p:nvSpPr>
          <p:spPr>
            <a:xfrm>
              <a:off x="232920" y="6095880"/>
              <a:ext cx="408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receives and reviews 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missions; gets feedback from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1" descr="xo-slide-ink1"/>
            <p:cNvPicPr/>
            <p:nvPr/>
          </p:nvPicPr>
          <p:blipFill>
            <a:blip r:embed="rId4"/>
            <a:stretch/>
          </p:blipFill>
          <p:spPr>
            <a:xfrm>
              <a:off x="2057400" y="4191120"/>
              <a:ext cx="2070000" cy="169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37"/>
          <p:cNvGrpSpPr/>
          <p:nvPr/>
        </p:nvGrpSpPr>
        <p:grpSpPr>
          <a:xfrm>
            <a:off x="4800600" y="3429000"/>
            <a:ext cx="4358520" cy="3309480"/>
            <a:chOff x="4800600" y="3429000"/>
            <a:chExt cx="4358520" cy="3309480"/>
          </a:xfrm>
        </p:grpSpPr>
        <p:grpSp>
          <p:nvGrpSpPr>
            <p:cNvPr id="161" name="Group 25"/>
            <p:cNvGrpSpPr/>
            <p:nvPr/>
          </p:nvGrpSpPr>
          <p:grpSpPr>
            <a:xfrm>
              <a:off x="4800600" y="3581280"/>
              <a:ext cx="457200" cy="457200"/>
              <a:chOff x="4800600" y="3581280"/>
              <a:chExt cx="457200" cy="457200"/>
            </a:xfrm>
          </p:grpSpPr>
          <p:sp>
            <p:nvSpPr>
              <p:cNvPr id="162" name="Oval 26"/>
              <p:cNvSpPr/>
              <p:nvPr/>
            </p:nvSpPr>
            <p:spPr>
              <a:xfrm>
                <a:off x="4800600" y="358128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7"/>
              <p:cNvSpPr/>
              <p:nvPr/>
            </p:nvSpPr>
            <p:spPr>
              <a:xfrm>
                <a:off x="4862880" y="362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28"/>
            <p:cNvSpPr/>
            <p:nvPr/>
          </p:nvSpPr>
          <p:spPr>
            <a:xfrm>
              <a:off x="4805640" y="6095880"/>
              <a:ext cx="43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acher shares select student respo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entire class by broadcasting 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9" descr="xo-inked"/>
            <p:cNvPicPr/>
            <p:nvPr/>
          </p:nvPicPr>
          <p:blipFill>
            <a:blip r:embed="rId5"/>
            <a:stretch/>
          </p:blipFill>
          <p:spPr>
            <a:xfrm>
              <a:off x="5562720" y="3429000"/>
              <a:ext cx="160020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0" descr="xo-inked"/>
            <p:cNvPicPr/>
            <p:nvPr/>
          </p:nvPicPr>
          <p:blipFill>
            <a:blip r:embed="rId6"/>
            <a:stretch/>
          </p:blipFill>
          <p:spPr>
            <a:xfrm>
              <a:off x="6781680" y="4081320"/>
              <a:ext cx="23623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1" descr="xo-inked"/>
            <p:cNvPicPr/>
            <p:nvPr/>
          </p:nvPicPr>
          <p:blipFill>
            <a:blip r:embed="rId7"/>
            <a:stretch/>
          </p:blipFill>
          <p:spPr>
            <a:xfrm>
              <a:off x="5105520" y="4797360"/>
              <a:ext cx="1295280" cy="11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Line 32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41D3-92E0-41EC-9BE3-A01C183CD1F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: Graph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9671-9B16-4D57-9660-678192063EA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: Networking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on Pla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2A2E-F4CF-425A-B870-7740B9CF780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aluation Pla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5720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on Pla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peg – easier to interact with 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g – lower overhead &amp; XO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088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phics – Lesson Pl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in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PowerPoint presentations o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rt ppt -&gt; pdf -&gt; svg || ppt -&gt; emf -&gt; 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491240" y="6434280"/>
            <a:ext cx="2574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8FC-6306-4696-A714-2E1E381502E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660240" y="1434960"/>
            <a:ext cx="3048120" cy="374652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2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wo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9880" y="60948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slides, communicate control information, share 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path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onent of Sugar OS: provides discovery of shared activities and establishes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functionality regardless of underlying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343080">
              <a:lnSpc>
                <a:spcPct val="100000"/>
              </a:lnSpc>
              <a:spcBef>
                <a:spcPts val="675"/>
              </a:spcBef>
              <a:buClr>
                <a:srgbClr val="cc9900"/>
              </a:buClr>
              <a:buSzPct val="64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d starting point for XO to XO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etano Borriello</dc:creator>
  <dc:description/>
  <cp:keywords/>
  <dc:language>en-US</dc:language>
  <cp:lastModifiedBy>wburnsid</cp:lastModifiedBy>
  <dcterms:modified xsi:type="dcterms:W3CDTF">2008-02-20T03:34:16Z</dcterms:modified>
  <cp:revision>10</cp:revision>
  <dc:subject/>
  <dc:title>Project title</dc:title>
</cp:coreProperties>
</file>